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FA655-96BF-4722-978D-78A66D69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A9436-0D8A-42BF-A9B5-56322381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8EDE3-6D25-404E-B9E4-840F1349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0EF81-52AC-4BCB-8D3A-EDEAE4FE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48A5-07BF-4272-B536-A08795E3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3452-9464-4577-984C-ED34830F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04F3-0B2D-42B3-B673-6718DD1F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3513-6520-4F11-98C9-E2C9D0E7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F8C1-3996-4B20-ACE5-E0811B21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4C45-952C-47FE-90A9-B729202B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3EE4-878F-419D-8E94-CC358EC6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21ABD-6804-496B-BD6A-1A073353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143A-FFEC-47E9-8372-A98002BE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0BA9-FF9D-43DE-AD81-3B382BAA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BA20-4C5E-4A3C-B730-CD56E3A8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3DBA-2842-4586-95D7-DE89D7BF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0A43-77F7-4845-ABCB-23D25EA4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CE5CB-5C4F-4CCC-888F-BDAF7098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5E07B-0AD6-4089-902E-21676BE5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23697-E858-41CC-9362-6EDB50FB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F0F11-BA41-449F-B044-AF2D1D10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2218-ED1E-4407-860D-CE3CB1B2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93487-8159-4FE7-AB05-7AE40C4D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6CA7D-C51D-4B02-AAEF-579C8F21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6D24-1DF9-4917-B031-6175113E8B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B520-FD3F-46D7-9A09-BA9DC68891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LOTE : French and Italia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1544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fdef6"/>
                </a:solidFill>
                <a:latin typeface="Arial"/>
              </a:rPr>
              <a:t>pizza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134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fdef6"/>
                </a:solidFill>
                <a:latin typeface="Arial"/>
              </a:rPr>
              <a:t>mascara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55767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477120" cy="63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495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fdef6"/>
                </a:solidFill>
                <a:latin typeface="Arial"/>
              </a:rPr>
              <a:t>casino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238880" cy="41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fdef6"/>
                </a:solidFill>
                <a:latin typeface="Arial"/>
              </a:rPr>
              <a:t>FRENCH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352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fdef6"/>
                </a:solidFill>
                <a:latin typeface="Arial"/>
              </a:rPr>
              <a:t>graffiti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657216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1397160" y="822240"/>
            <a:ext cx="6349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fdef6"/>
                </a:solidFill>
                <a:latin typeface="Arial"/>
              </a:rPr>
              <a:t>opera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60451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fdef6"/>
                </a:solidFill>
                <a:latin typeface="Arial"/>
              </a:rPr>
              <a:t>mafia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56674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fdef6"/>
                </a:solidFill>
                <a:latin typeface="Arial"/>
              </a:rPr>
              <a:t>influenza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2895480" y="380880"/>
            <a:ext cx="347184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fdef6"/>
                </a:solidFill>
                <a:latin typeface="Arial"/>
              </a:rPr>
              <a:t>lotto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63868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French or English origin?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2666880" y="1752120"/>
            <a:ext cx="5105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u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aur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ven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tr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iquet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Wow, you are very good at Italian!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French or English origin?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2666880" y="1752120"/>
            <a:ext cx="5105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Fru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Restaur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Jour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nt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Bac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ouven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utr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a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tiquet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Wow, you are very good at French!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fdef6"/>
                </a:solidFill>
                <a:latin typeface="Arial"/>
              </a:rPr>
              <a:t>ITALIAN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fdef6"/>
                </a:solidFill>
                <a:latin typeface="Arial"/>
              </a:rPr>
              <a:t>confetti</a:t>
            </a:r>
            <a:endParaRPr b="0" lang="en-US" sz="8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5338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5:46:01Z</dcterms:created>
  <dc:creator>bolleke</dc:creator>
  <dc:description/>
  <dc:language>en-US</dc:language>
  <cp:lastModifiedBy>IT&amp;S</cp:lastModifiedBy>
  <dcterms:modified xsi:type="dcterms:W3CDTF">2008-03-11T01:04:49Z</dcterms:modified>
  <cp:revision>8</cp:revision>
  <dc:subject/>
  <dc:title>French or English origin?</dc:title>
</cp:coreProperties>
</file>